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392-1308-4897-933B-7F4FF6BE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132-EB99-4F4E-A332-CDF58789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0CC-7227-4D11-AC4F-1063300A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CA2-D50A-454C-8C7F-5A7E03E6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5935-DBA3-4FD9-9CC8-504AF55D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E99F-ACE7-4664-A486-5BD2C877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76F3-0889-42FA-86A9-475D60AC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5170-E0F7-4BB3-8BEC-C795CB5B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AE03-4780-4222-A210-366688E2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34A3-2C90-4FB7-934C-A5C0F558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C52E-7AE7-4FF3-9E9B-CA6E51C5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49E-669B-4F81-A50C-4EE227D3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E824-6EC6-4561-8837-1ADF676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AB5F-20A8-4F7F-8114-B6DD3CD3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7C0A-F60B-417D-98A7-6B6661AA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3228-DC1E-40C6-AC8B-8CFDF032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E1A3-8ADC-418C-8C69-948AD94E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542-40DD-4C6A-A38E-4806799E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CC2-96C7-4FA6-B2CF-7B053946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056-24E1-484C-ABF4-15A03306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B8C-B292-49C3-862B-694BB91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E7F-00B6-483F-A76D-BF4E7A6F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B00-99BB-40AC-975F-9563AE85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A95-CFF7-40F6-A368-E9BA266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0404-CF6E-4B19-BD65-9A593C2AD99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D47-27C3-4FFD-ACC5-7222AB54F5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дицински факултет Крагујевац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изикална терапија пацијената са ванзглобним реуматизм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0880" y="602064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Запаљење тетива и овојница тетива (</a:t>
            </a:r>
            <a:r>
              <a:rPr b="0" lang="sr-Latn-CS" sz="3800" spc="-1" strike="noStrike">
                <a:solidFill>
                  <a:srgbClr val="ffffff"/>
                </a:solidFill>
                <a:latin typeface="Garamond"/>
              </a:rPr>
              <a:t>Tendinitis</a:t>
            </a: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sr-Latn-CS" sz="3800" spc="-1" strike="noStrike">
                <a:solidFill>
                  <a:srgbClr val="ffffff"/>
                </a:solidFill>
                <a:latin typeface="Garamond"/>
              </a:rPr>
              <a:t>Tendosynovitis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581280" y="2210760"/>
            <a:ext cx="5410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Појам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tendinitis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бухвата запаљење везивног ткива тетиве, 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tendosynovitis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запаљење омотача овојница тети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сновни симптом је бол у пределу овојнице тетиве, чија јачина зависи од акутности и степена запаљенског процеса. Погоршава се при њеном затезању или истезањ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електротерапија (електрофореза салицилата, вазодилататора, новокаина и др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терм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ласер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импулсном магнетно поље високе фрекфенције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tendonit"/>
          <p:cNvPicPr/>
          <p:nvPr/>
        </p:nvPicPr>
        <p:blipFill>
          <a:blip r:embed="rId1"/>
          <a:stretch/>
        </p:blipFill>
        <p:spPr>
          <a:xfrm>
            <a:off x="304920" y="2590920"/>
            <a:ext cx="31240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Алгодистрофични синдроми </a:t>
            </a:r>
            <a:br>
              <a:rPr sz="3800"/>
            </a:b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sr-Latn-CS" sz="3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sr-Latn-CS" sz="3800" spc="-1" strike="noStrike">
                <a:solidFill>
                  <a:srgbClr val="ffffff"/>
                </a:solidFill>
                <a:latin typeface="Garamond"/>
              </a:rPr>
              <a:t>. algodistrofica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210760"/>
            <a:ext cx="617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лгодистрофични синдром представља вазомоторни поремећај са израженим болним и трофичним сметњама у оквиру трауматских и атрауматских оштећења организм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Интензиван бол, трофичне промене, које се карактеришу сјајном, глатком и затегнутом кожом, атрофија мишића и остеопороза костиј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ајчешћи облици су: раме-шака синдром,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Sy Sudeck, Volkman-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ва исхемична контракту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електротерапија (ДДС, ИФ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терапија лас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ултразвучна 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кинезитерапиј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DSR - Estadío 1 (Etapa Inflamatoria Precoz)"/>
          <p:cNvPicPr/>
          <p:nvPr/>
        </p:nvPicPr>
        <p:blipFill>
          <a:blip r:embed="rId1"/>
          <a:srcRect l="0" t="0" r="0" b="6810"/>
          <a:stretch/>
        </p:blipFill>
        <p:spPr>
          <a:xfrm>
            <a:off x="6278400" y="2286000"/>
            <a:ext cx="25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Комбинована околозглобна обољења </a:t>
            </a:r>
            <a:r>
              <a:rPr b="0" lang="sr-Latn-CS" sz="3800" spc="-1" strike="noStrike">
                <a:solidFill>
                  <a:srgbClr val="ffffff"/>
                </a:solidFill>
                <a:latin typeface="Garamond"/>
              </a:rPr>
              <a:t>(Periarthropathia</a:t>
            </a:r>
            <a:r>
              <a:rPr b="1" lang="sr-Latn-CS" sz="3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28600" y="31402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ва група обољења подразумева комбиновано обољење околозглобних структура (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ntenzopathia, bursitis, tenditis, capsulitis, a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понекад и појаву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sinovitis-a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захваћеног зглоб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ајчешће локализације 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eriarthropathia humeroscapularis –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индром болног рам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periarthropathia cubiti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– синдром болног ла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peritrochanterpathia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– синдром болног великог трохант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линичка слика и терапија се разликују у односу на локализацију самог обољењ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Хвала на пажњи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Ванзглобни реуматизам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57200" y="2741760"/>
            <a:ext cx="8381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кстраартикуларни реуматизам представља обољење локализовано ван зглобова, која се могу јавити као самостална или пратећа неких облика артикуларних реуматиза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ве промене имају заједнички симптом – бол. Уопште, код екстраартикуларних реуматизама патолошки процес може захватити мишиће, тетиве, удружено тетиве и мишиће и друга фиброзна ткива, поткожно масно и везивно, бурзе и др., као и фиброзни део капсуле зглоб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Етиологија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80880" y="2894400"/>
            <a:ext cx="8534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огени чиниоц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- ендокрини и вегетативни систем, а првенствено  хормони надбубрежене жлезде, хормони хипофизе, до извесне мере полни хормоне, као и генетски чиниоц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гзогени чониоц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- инфекције, микротрауме, климатске и атмосферски утицаји (нарочито хладноћа и влага), лоши хигијенски услови, лоша исхрана, професионалне предиспозиције, и т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Патолошка анатомија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28600" y="281628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атолошка реакција код ванзглобних реуматизама одиграва се у фиброзним елементима везивног ткива (мишића, капсула, тетива, фасција и тд.) као и фиброзним елементима поткожног и масног тк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атолошки процес је у основи биохемијске и метаболичке природе и погађа основну супстанцу везивног ткива. Што касније повлачи низ раекц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Класификација ванзглобних реуматизам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4920" y="3364560"/>
            <a:ext cx="6019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иофиброзити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Целулопат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Ентензопат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Бурзит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Тендин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Комбинована околозглобна обољ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Миофиброзитис (</a:t>
            </a:r>
            <a:r>
              <a:rPr b="0" lang="sr-Latn-CS" sz="4200" spc="-1" strike="noStrike">
                <a:solidFill>
                  <a:srgbClr val="ffffff"/>
                </a:solidFill>
                <a:latin typeface="Garamond"/>
              </a:rPr>
              <a:t>Myofibrositis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04920" y="175392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Миофиброзитис представља обољење фиброзних влакана мишићног тки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ајчешћа локализациј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вратни део кичменог стуб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интерскапуларна рег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лумбална рег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предео великог трохан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задња ложа подколениц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терм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ултразвучна 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ласеро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електротерапијске процедуре (електрофореза, дијадинамичне струје ,TENS,интерферентне струј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хидро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кинезитерапија.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http://www.cosyback.co.uk/images/back_diag.jpg"/>
          <p:cNvPicPr/>
          <p:nvPr/>
        </p:nvPicPr>
        <p:blipFill>
          <a:blip r:embed="rId1"/>
          <a:stretch/>
        </p:blipFill>
        <p:spPr>
          <a:xfrm>
            <a:off x="6858000" y="1828800"/>
            <a:ext cx="1708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Целулопатије (С</a:t>
            </a:r>
            <a:r>
              <a:rPr b="0" lang="sr-Latn-CS" sz="4200" spc="-1" strike="noStrike">
                <a:solidFill>
                  <a:srgbClr val="ffffff"/>
                </a:solidFill>
                <a:latin typeface="Garamond"/>
              </a:rPr>
              <a:t>elulopathia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05320" y="1677960"/>
            <a:ext cx="533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сновне промене код целулопатија су фиброзитис субкутаног везивног и масног тки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ајчешћа локализација је у поткожном и масном ткиву на медијалној страни колена и латералне стране бутине. Кожа над оболелим ткивом има карактеристичан знак „поморанџине коре“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механотерапија (масажа и примена ултразву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ласер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пнеумомаса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електрофореза ферментативних препара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инези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хидротерапиј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celulitis"/>
          <p:cNvPicPr/>
          <p:nvPr/>
        </p:nvPicPr>
        <p:blipFill>
          <a:blip r:embed="rId1"/>
          <a:stretch/>
        </p:blipFill>
        <p:spPr>
          <a:xfrm>
            <a:off x="152280" y="3200400"/>
            <a:ext cx="33530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Ентензопатије (</a:t>
            </a:r>
            <a:r>
              <a:rPr b="0" lang="sr-Latn-CS" sz="4200" spc="-1" strike="noStrike">
                <a:solidFill>
                  <a:srgbClr val="ffffff"/>
                </a:solidFill>
                <a:latin typeface="Garamond"/>
              </a:rPr>
              <a:t>Entesopathia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04920" y="1982520"/>
            <a:ext cx="861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Ентензитис је запаљење инсерције (припоја) меких ткива за ко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талан симптом је бол различитог интензитета: јак у акутном, слабији и неугодан у субакутном облику. Бол се погоршава при покретима који оптерећују припој (затезање тетиве или лигамента) и обично је јачи у току ноћ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акутној фаз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ри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снажне аналгетске процедуре (ДДС, ТЕНС, АГ,ЕФ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2. У фази ремис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термотерапија (топла диферентна зо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кинези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ултразвучна 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ласер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балнео и пелоидо терапиј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Бурзитис (</a:t>
            </a:r>
            <a:r>
              <a:rPr b="0" lang="sr-Latn-CS" sz="4200" spc="-1" strike="noStrike">
                <a:solidFill>
                  <a:srgbClr val="ffffff"/>
                </a:solidFill>
                <a:latin typeface="Garamond"/>
              </a:rPr>
              <a:t>Bursitis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28600" y="1982520"/>
            <a:ext cx="5791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урзитис представља упални процес локализован у бурзама (зглобним врећицама са синовијалном течношћу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ол ј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новни симп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м бурзитиса. Код акутног бол је јак, израженији у току ноћи и може да доведе до значајног ограничења покрета супротног зглоба.Једна од најчешћих манифестација је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Backer-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ва циста, локализована у поплитеалној јам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ултразвучна 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интерферентне стру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хидро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електро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кинезитерапиј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popliteal_baker's_cyst"/>
          <p:cNvPicPr/>
          <p:nvPr/>
        </p:nvPicPr>
        <p:blipFill>
          <a:blip r:embed="rId1"/>
          <a:stretch/>
        </p:blipFill>
        <p:spPr>
          <a:xfrm>
            <a:off x="6553080" y="2057400"/>
            <a:ext cx="1989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1:15:03Z</dcterms:created>
  <dc:creator>Nidza i Nina</dc:creator>
  <dc:description/>
  <dc:language>en-US</dc:language>
  <cp:lastModifiedBy>Info</cp:lastModifiedBy>
  <dcterms:modified xsi:type="dcterms:W3CDTF">2014-12-26T10:12:25Z</dcterms:modified>
  <cp:revision>10</cp:revision>
  <dc:subject/>
  <dc:title>Висока медицинска школа струковних студија Ћуприја</dc:title>
</cp:coreProperties>
</file>